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1.wmf" ContentType="image/x-wmf"/>
  <Override PartName="/ppt/media/image2.wmf" ContentType="image/x-wmf"/>
  <Override PartName="/ppt/media/chimes.wav" ContentType="audio/x-wav"/>
  <Override PartName="/ppt/media/MSj00748430000%5B1%5D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DACF-531F-4893-9476-F2A5F090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2840-C53A-40BD-AC6A-F29945D0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9F1A-4963-4689-8AE1-2FD899C6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F51A-C400-4481-AEF9-8FCD02F7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58B9-AAEF-4A10-929E-F4268922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ACF8-D459-4A08-A15F-D3EF78A1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4523-CABB-40B3-87B4-E7436214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0D0D-F65F-49EB-A920-90E24E83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0251-6DE9-47ED-A26A-162AB802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2EEA-843E-46DC-8DDB-9150532A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BD76-7FB8-4901-BC6D-80B314EC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8E88-9FE7-4926-8D96-9888677D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D28C-DCC7-4013-9154-93FC5AD2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BEF0-11E8-4DD7-B7CD-4825D2F8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BE77-4D52-4778-826E-B0F80137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B9A8-0900-4D8D-B10D-FE8B58D0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FC47-043F-4F86-8483-C59D6BE4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0553-5BBD-47FC-B1A3-C94B9BD3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48BE-81A1-4C6B-9E3F-E98D6DD6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B18B-99EB-40BC-8971-0BE33F3A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326F-2777-4505-BD5B-DF41B013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FA3D-30C3-418F-860A-AC2F4E09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8D68-11ED-4BB2-ABEA-45A8CC2B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9C00-E555-49A8-A6A9-75E8729C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F7EC-AB51-4620-98C5-15481FAECAE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9571-BB70-4BD4-AB96-C74C02F5FCB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drumroll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MSj00748430000%5B1%5D.wav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1552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Making Words 3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ELL DON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You did it……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0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8360" y="2205000"/>
            <a:ext cx="2176560" cy="2205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500"/>
                            </p:stCondLst>
                            <p:childTnLst>
                              <p:par>
                                <p:cTn id="13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3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00000" y="2349360"/>
            <a:ext cx="1424160" cy="1717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9500"/>
                            </p:stCondLst>
                            <p:childTnLst>
                              <p:par>
                                <p:cTn id="26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7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7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7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8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2382840" cy="2068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9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9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9500"/>
                            </p:stCondLst>
                            <p:childTnLst>
                              <p:par>
                                <p:cTn id="40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0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1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1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3500"/>
                            </p:stCondLst>
                            <p:childTnLst>
                              <p:par>
                                <p:cTn id="41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1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6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1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2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900000" y="2349360"/>
            <a:ext cx="1212840" cy="1962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0"/>
                            </p:stCondLst>
                            <p:childTnLst>
                              <p:par>
                                <p:cTn id="528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3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90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9500"/>
                            </p:stCondLst>
                            <p:childTnLst>
                              <p:par>
                                <p:cTn id="54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4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5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5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5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7500"/>
                            </p:stCondLst>
                            <p:childTnLst>
                              <p:par>
                                <p:cTn id="55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5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c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1816200" cy="17319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6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6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9000"/>
                            </p:stCondLst>
                            <p:childTnLst>
                              <p:par>
                                <p:cTn id="6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9500"/>
                            </p:stCondLst>
                            <p:childTnLst>
                              <p:par>
                                <p:cTn id="68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8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1500"/>
                            </p:stCondLst>
                            <p:childTnLst>
                              <p:par>
                                <p:cTn id="686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8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9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500"/>
                            </p:stCondLst>
                            <p:childTnLst>
                              <p:par>
                                <p:cTn id="69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9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7500"/>
                            </p:stCondLst>
                            <p:childTnLst>
                              <p:par>
                                <p:cTn id="69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9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c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2624040" cy="17506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0"/>
                            </p:stCondLst>
                            <p:childTnLst>
                              <p:par>
                                <p:cTn id="804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9000"/>
                            </p:stCondLst>
                            <p:childTnLst>
                              <p:par>
                                <p:cTn id="8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9500"/>
                            </p:stCondLst>
                            <p:childTnLst>
                              <p:par>
                                <p:cTn id="82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1500"/>
                            </p:stCondLst>
                            <p:childTnLst>
                              <p:par>
                                <p:cTn id="82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3500"/>
                            </p:stCondLst>
                            <p:childTnLst>
                              <p:par>
                                <p:cTn id="82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2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3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3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3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c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ock"/>
          <p:cNvSpPr/>
          <p:nvPr/>
        </p:nvSpPr>
        <p:spPr>
          <a:xfrm>
            <a:off x="395280" y="1773360"/>
            <a:ext cx="1492200" cy="311616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newsflash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936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0"/>
                            </p:stCondLst>
                            <p:childTnLst>
                              <p:par>
                                <p:cTn id="942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4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9000"/>
                            </p:stCondLst>
                            <p:childTnLst>
                              <p:par>
                                <p:cTn id="9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9500"/>
                            </p:stCondLst>
                            <p:childTnLst>
                              <p:par>
                                <p:cTn id="95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96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1500"/>
                            </p:stCondLst>
                            <p:childTnLst>
                              <p:par>
                                <p:cTn id="96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96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3500"/>
                            </p:stCondLst>
                            <p:childTnLst>
                              <p:par>
                                <p:cTn id="96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96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5500"/>
                            </p:stCondLst>
                            <p:childTnLst>
                              <p:par>
                                <p:cTn id="96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96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7500"/>
                            </p:stCondLst>
                            <p:childTnLst>
                              <p:par>
                                <p:cTn id="97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97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c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2124000" cy="29386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4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0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8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9500"/>
                            </p:stCondLst>
                            <p:childTnLst>
                              <p:par>
                                <p:cTn id="109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09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0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10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0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10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06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1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0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11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16:09:57Z</dcterms:created>
  <dc:creator>Franklin</dc:creator>
  <dc:description/>
  <dc:language>en-US</dc:language>
  <cp:lastModifiedBy>Cynthia</cp:lastModifiedBy>
  <dcterms:modified xsi:type="dcterms:W3CDTF">2010-11-13T22:18:31Z</dcterms:modified>
  <cp:revision>9</cp:revision>
  <dc:subject/>
  <dc:title>Making Words</dc:title>
</cp:coreProperties>
</file>